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77.png" ContentType="image/png"/>
  <Override PartName="/ppt/media/image32.png" ContentType="image/png"/>
  <Override PartName="/ppt/media/image31.wmf" ContentType="image/x-wmf"/>
  <Override PartName="/ppt/media/image74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30.wmf" ContentType="image/x-wmf"/>
  <Override PartName="/ppt/media/image73.png" ContentType="image/png"/>
  <Override PartName="/ppt/media/image27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48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80.wmf" ContentType="image/x-wmf"/>
  <Override PartName="/ppt/media/image14.wmf" ContentType="image/x-wmf"/>
  <Override PartName="/ppt/media/image101.wmf" ContentType="image/x-wmf"/>
  <Override PartName="/ppt/media/image64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1.png" ContentType="image/png"/>
  <Override PartName="/ppt/media/image66.wmf" ContentType="image/x-wmf"/>
  <Override PartName="/ppt/media/image67.wmf" ContentType="image/x-wmf"/>
  <Override PartName="/ppt/media/image70.wmf" ContentType="image/x-wmf"/>
  <Override PartName="/ppt/media/image69.wmf" ContentType="image/x-wmf"/>
  <Override PartName="/ppt/media/image72.wmf" ContentType="image/x-wmf"/>
  <Override PartName="/ppt/media/image88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76.png" ContentType="image/png"/>
  <Override PartName="/ppt/media/image96.wmf" ContentType="image/x-wmf"/>
  <Override PartName="/ppt/media/image75.png" ContentType="image/png"/>
  <Override PartName="/ppt/media/image95.wmf" ContentType="image/x-wmf"/>
  <Override PartName="/ppt/media/image102.wmf" ContentType="image/x-wmf"/>
  <Override PartName="/ppt/media/image92.wmf" ContentType="image/x-wmf"/>
  <Override PartName="/ppt/media/image89.wmf" ContentType="image/x-wmf"/>
  <Override PartName="/ppt/media/image82.wmf" ContentType="image/x-wmf"/>
  <Override PartName="/ppt/media/image79.wmf" ContentType="image/x-wmf"/>
  <Override PartName="/ppt/media/image91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85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7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5210-F530-4F19-8F97-9D65B75AEE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F7E6-AB5F-4ADE-BBF2-3E90751B5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C2C-7ED4-4982-8434-938E8A97D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D98-4879-48FE-A8F5-54ED028D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6BC-B261-4D4E-A8C1-B78BC0A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79A-D350-4A6C-929F-1908B2FF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EE5-60FF-4D73-BF3C-58E2213F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14BF-4513-415A-8686-9792116A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D75-A73E-45C1-981A-2697FF0A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2B6-BE07-4AC3-B8D0-28129514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C77-11A1-44E2-946D-66B3593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7F3-8416-4A37-8269-5EA0EB03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FB40-D099-472E-B635-EC2FA7AF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79A0-97E2-400F-8A5B-AD154CC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824-2D8F-4B1E-A3A0-D2F4E27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61E-47ED-4EAB-A0E7-B04A8DF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62F0-CB3C-491B-973E-1EF3BA0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3A69-2481-4EC6-9B52-C6581B3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578-E4ED-4B3A-83E7-E92D9EB4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92ED-6A45-4D30-9A5F-7686395B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205B-2EA2-46AA-B2BF-576F7905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9B3E-33F4-4A99-80E0-3A44B11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7403-F3F9-40D2-A904-3A344D0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A42B-D122-4630-B640-8FD7828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6BF4-CD65-48C0-944D-52DE46AB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9A5-8697-42C9-8FFF-C2942BF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AE71-5133-4C89-A0A4-4D8C634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1B47-6E8E-4D4D-A388-0084A16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8185-72C2-4509-9E1A-EFC981F8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706C-EDBD-4914-A69A-8F47930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172E-512C-45D4-BC59-A4F6EBD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131C-50A8-4303-8061-8263D6EE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299D-DE34-44ED-9783-C36BA264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DAD8-3EE7-4D01-81C4-DF5E210C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D3E0-9749-4283-BFEC-C375A843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4023-1514-466F-93DD-10CB0CF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3BA-54C0-4615-A17C-C2CBB49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A895-1CC8-4D68-AD6B-752500F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9589-A41A-41BF-BA7F-1B844E5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D7C0-4AF7-4277-AD9D-333BEEC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1ECE-7EF2-4996-AA35-DE0186BC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E7B1-E81F-4580-9E11-2BBB1C3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10E5-A822-4671-A79C-7A12A6BA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C688-E87C-4169-B1F8-BDF9204B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08E6-F913-4F53-99C7-6885232F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0610-050C-4B8D-97FE-9737AC39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597B-8CD7-443F-A89C-250582BF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E4E-4017-4CB9-BFEE-D44ECA7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7687-7612-407E-8791-94D8B1EA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5CBF-0134-4767-8AF6-C910E7F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BE4A8-7625-414B-8DEE-9603701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81762-A312-4618-970F-7CDD5A5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ECFE-4E73-45CE-99CA-37614B68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C7E0-ED28-4546-8CBA-82B5AFA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1003-FF5B-4023-85CE-CDEEE14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A9BE-AB85-4D95-B750-CC05D8A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3CBD2-BA20-491E-89D5-7B71CF9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0374-BAEB-41FF-8C43-985C45BD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7BD-040C-4EF2-9776-727028A7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0F73-F270-4E09-882A-A144C852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500-5F34-4C95-B2E0-98406663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E86-F415-44DB-8BFE-1BB4333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E30-7A74-440B-B27B-DFF47B3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551A-E521-4B35-832C-5A22CB42A1B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A89C-29F7-4153-8BDE-006B1AF5AB3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7B8-CE3B-4613-ACDD-5FCDAAA67B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1E2B-4135-40DA-A7A1-1FF0AEB1631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32E-C9EC-48FA-8211-05EF20A4711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image" Target="../media/image6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908440" y="500040"/>
            <a:ext cx="681516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566880" y="4776840"/>
            <a:ext cx="54370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Лекция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83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Чтобы вычислить новый интеграл, сделаем замену .                     В этом случа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2238480" y="1125360"/>
                <a:ext cx="4782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Box 7"/>
          <p:cNvSpPr/>
          <p:nvPr/>
        </p:nvSpPr>
        <p:spPr>
          <a:xfrm>
            <a:off x="848520" y="61372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3492360" y="2781360"/>
                <a:ext cx="11448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8" name="Object 5"/>
          <p:cNvGraphicFramePr/>
          <p:nvPr/>
        </p:nvGraphicFramePr>
        <p:xfrm>
          <a:off x="922320" y="3114720"/>
          <a:ext cx="7074000" cy="18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3114720"/>
                    <a:ext cx="707400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9"/>
          <p:cNvSpPr/>
          <p:nvPr/>
        </p:nvSpPr>
        <p:spPr>
          <a:xfrm>
            <a:off x="495720" y="491184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сюда находим искомый интег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2786040" y="5284800"/>
                <a:ext cx="47563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2484360" y="5969160"/>
                <a:ext cx="2989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74720" y="109440"/>
            <a:ext cx="6973920" cy="506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71440" y="76500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Решение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нахождения интеграла                   обозначи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5" name="Объект 5"/>
          <p:cNvGraphicFramePr/>
          <p:nvPr/>
        </p:nvGraphicFramePr>
        <p:xfrm>
          <a:off x="4502160" y="692280"/>
          <a:ext cx="13888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692280"/>
                    <a:ext cx="1388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6"/>
          <p:cNvGraphicFramePr/>
          <p:nvPr/>
        </p:nvGraphicFramePr>
        <p:xfrm>
          <a:off x="252360" y="1700280"/>
          <a:ext cx="2978280" cy="151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2360" y="1700280"/>
                    <a:ext cx="29782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7"/>
          <p:cNvGraphicFramePr/>
          <p:nvPr/>
        </p:nvGraphicFramePr>
        <p:xfrm>
          <a:off x="4479840" y="1773360"/>
          <a:ext cx="4003920" cy="118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79840" y="1773360"/>
                    <a:ext cx="4003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8"/>
          <p:cNvGraphicFramePr/>
          <p:nvPr/>
        </p:nvGraphicFramePr>
        <p:xfrm>
          <a:off x="228600" y="3789360"/>
          <a:ext cx="2544840" cy="161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2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789360"/>
                    <a:ext cx="2544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Объект 9"/>
          <p:cNvGraphicFramePr/>
          <p:nvPr/>
        </p:nvGraphicFramePr>
        <p:xfrm>
          <a:off x="4508640" y="3068640"/>
          <a:ext cx="1238040" cy="87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Объект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8640" y="3068640"/>
                    <a:ext cx="12380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Объект 11"/>
          <p:cNvGraphicFramePr/>
          <p:nvPr/>
        </p:nvGraphicFramePr>
        <p:xfrm>
          <a:off x="4448160" y="4076640"/>
          <a:ext cx="4014720" cy="97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Объект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48160" y="4076640"/>
                    <a:ext cx="4014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Стрелка вправо 12"/>
          <p:cNvSpPr/>
          <p:nvPr/>
        </p:nvSpPr>
        <p:spPr>
          <a:xfrm rot="20245200">
            <a:off x="3330360" y="2506680"/>
            <a:ext cx="1223640" cy="1522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право 13"/>
          <p:cNvSpPr/>
          <p:nvPr/>
        </p:nvSpPr>
        <p:spPr>
          <a:xfrm rot="1041600">
            <a:off x="2835360" y="4309920"/>
            <a:ext cx="1584360" cy="17964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2602080" y="5013360"/>
            <a:ext cx="60325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 нахождения исходного интегр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олучи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Объект 15"/>
          <p:cNvGraphicFramePr/>
          <p:nvPr/>
        </p:nvGraphicFramePr>
        <p:xfrm>
          <a:off x="2846520" y="5859360"/>
          <a:ext cx="4998960" cy="90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1" name="Объект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6520" y="5859360"/>
                    <a:ext cx="49989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Объект 5"/>
          <p:cNvGraphicFramePr/>
          <p:nvPr/>
        </p:nvGraphicFramePr>
        <p:xfrm>
          <a:off x="1692360" y="549360"/>
          <a:ext cx="5599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49360"/>
                    <a:ext cx="559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Объект 6"/>
          <p:cNvGraphicFramePr/>
          <p:nvPr/>
        </p:nvGraphicFramePr>
        <p:xfrm>
          <a:off x="1758960" y="1844640"/>
          <a:ext cx="5535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1844640"/>
                    <a:ext cx="5535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85640" y="3614400"/>
            <a:ext cx="12780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7" name="Объект 8"/>
          <p:cNvGraphicFramePr/>
          <p:nvPr/>
        </p:nvGraphicFramePr>
        <p:xfrm>
          <a:off x="2421000" y="3357720"/>
          <a:ext cx="42498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1000" y="3357720"/>
                    <a:ext cx="4249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85280" y="1600200"/>
            <a:ext cx="747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4"/>
              <p:cNvSpPr txBox="1"/>
              <p:nvPr/>
            </p:nvSpPr>
            <p:spPr>
              <a:xfrm>
                <a:off x="2417760" y="306864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2" name="Object 13"/>
          <p:cNvGraphicFramePr/>
          <p:nvPr/>
        </p:nvGraphicFramePr>
        <p:xfrm>
          <a:off x="2106720" y="3836880"/>
          <a:ext cx="2898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6720" y="3836880"/>
                    <a:ext cx="2898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774800" y="4592520"/>
                <a:ext cx="397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55" name="Объект 3"/>
          <p:cNvGraphicFramePr/>
          <p:nvPr/>
        </p:nvGraphicFramePr>
        <p:xfrm>
          <a:off x="5398920" y="1484280"/>
          <a:ext cx="194004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Объект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8920" y="1484280"/>
                    <a:ext cx="1940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60" y="1268280"/>
            <a:ext cx="883944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нахождения                          применим формулу интегрирования по частям еще раз, пусть тепер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Object 3"/>
          <p:cNvGraphicFramePr/>
          <p:nvPr/>
        </p:nvGraphicFramePr>
        <p:xfrm>
          <a:off x="465120" y="2879640"/>
          <a:ext cx="4211640" cy="11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879640"/>
                    <a:ext cx="421164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Box 9"/>
          <p:cNvSpPr/>
          <p:nvPr/>
        </p:nvSpPr>
        <p:spPr>
          <a:xfrm>
            <a:off x="181080" y="407664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первоначального интеграла получаем следующее   уравнение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1260360" y="404640"/>
                <a:ext cx="5329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396720" y="5099040"/>
                <a:ext cx="48355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Объект 1"/>
              <p:cNvSpPr txBox="1"/>
              <p:nvPr/>
            </p:nvSpPr>
            <p:spPr>
              <a:xfrm>
                <a:off x="3348000" y="1557360"/>
                <a:ext cx="1785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12360" y="2420640"/>
            <a:ext cx="7327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1893960" y="1700280"/>
                <a:ext cx="428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1832040" y="2835360"/>
                <a:ext cx="4732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Box 12"/>
          <p:cNvSpPr/>
          <p:nvPr/>
        </p:nvSpPr>
        <p:spPr>
          <a:xfrm>
            <a:off x="1424520" y="41911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4"/>
          <p:cNvGraphicFramePr/>
          <p:nvPr/>
        </p:nvGraphicFramePr>
        <p:xfrm>
          <a:off x="2989440" y="3843360"/>
          <a:ext cx="30160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3843360"/>
                    <a:ext cx="3016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Заголовок 3" descr=""/>
          <p:cNvPicPr/>
          <p:nvPr/>
        </p:nvPicPr>
        <p:blipFill>
          <a:blip r:embed="rId3"/>
          <a:stretch/>
        </p:blipFill>
        <p:spPr>
          <a:xfrm>
            <a:off x="341280" y="225360"/>
            <a:ext cx="88995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30240" y="311040"/>
            <a:ext cx="8759880" cy="963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200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ой прием нахождения таких интегралов состоит в сведения их к интегралам от рациональных функций (так называемая рационализация интеграла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мотрим интегралы вида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кие интегралы  рационализируются заменой переменной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3" name="Объект 5"/>
          <p:cNvGraphicFramePr/>
          <p:nvPr/>
        </p:nvGraphicFramePr>
        <p:xfrm>
          <a:off x="3348000" y="3860640"/>
          <a:ext cx="166860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86064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Объект 6"/>
          <p:cNvGraphicFramePr/>
          <p:nvPr/>
        </p:nvGraphicFramePr>
        <p:xfrm>
          <a:off x="7164360" y="4508640"/>
          <a:ext cx="8953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4508640"/>
                    <a:ext cx="895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85280" y="188640"/>
            <a:ext cx="8047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483920"/>
            <a:ext cx="8064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ынтегральная функция искомого интеграл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на как функция от радикала степеней 2 и 3. Наименьшее общее кратное чисел  2 и 3 равно 6. Данный интеграл является интегралом тип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                   Тогда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9" name="Объект 5"/>
          <p:cNvGraphicFramePr/>
          <p:nvPr/>
        </p:nvGraphicFramePr>
        <p:xfrm>
          <a:off x="3492360" y="189000"/>
          <a:ext cx="14194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9000"/>
                    <a:ext cx="14194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Объект 7"/>
          <p:cNvGraphicFramePr/>
          <p:nvPr/>
        </p:nvGraphicFramePr>
        <p:xfrm>
          <a:off x="3565440" y="3933720"/>
          <a:ext cx="166860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5440" y="393372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8"/>
          <p:cNvGraphicFramePr/>
          <p:nvPr/>
        </p:nvGraphicFramePr>
        <p:xfrm>
          <a:off x="2268360" y="4653000"/>
          <a:ext cx="9208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653000"/>
                    <a:ext cx="9208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9"/>
          <p:cNvGraphicFramePr/>
          <p:nvPr/>
        </p:nvGraphicFramePr>
        <p:xfrm>
          <a:off x="396720" y="5229360"/>
          <a:ext cx="482760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5229360"/>
                    <a:ext cx="48276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81080" y="333000"/>
            <a:ext cx="842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8" name="Объект 6"/>
          <p:cNvGraphicFramePr/>
          <p:nvPr/>
        </p:nvGraphicFramePr>
        <p:xfrm>
          <a:off x="1165320" y="333360"/>
          <a:ext cx="4173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333360"/>
                    <a:ext cx="4173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Объект 8"/>
          <p:cNvGraphicFramePr/>
          <p:nvPr/>
        </p:nvGraphicFramePr>
        <p:xfrm>
          <a:off x="282600" y="1579680"/>
          <a:ext cx="561672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600" y="1579680"/>
                    <a:ext cx="56167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Объект 9"/>
          <p:cNvGraphicFramePr/>
          <p:nvPr/>
        </p:nvGraphicFramePr>
        <p:xfrm>
          <a:off x="252360" y="3284640"/>
          <a:ext cx="3764160" cy="20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284640"/>
                    <a:ext cx="376416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Стрелка вниз 10"/>
          <p:cNvSpPr/>
          <p:nvPr/>
        </p:nvSpPr>
        <p:spPr>
          <a:xfrm rot="3063000">
            <a:off x="3180600" y="2413800"/>
            <a:ext cx="142560" cy="1116000"/>
          </a:xfrm>
          <a:prstGeom prst="downArrow">
            <a:avLst>
              <a:gd name="adj1" fmla="val 50000"/>
              <a:gd name="adj2" fmla="val 50123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9248600">
            <a:off x="5232240" y="2606400"/>
            <a:ext cx="144720" cy="122400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7"/>
          <p:cNvSpPr/>
          <p:nvPr/>
        </p:nvSpPr>
        <p:spPr>
          <a:xfrm>
            <a:off x="4405320" y="3738600"/>
            <a:ext cx="4032360" cy="140328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Объект 18"/>
          <p:cNvGraphicFramePr/>
          <p:nvPr/>
        </p:nvGraphicFramePr>
        <p:xfrm>
          <a:off x="4533840" y="4022640"/>
          <a:ext cx="37767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Объект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3840" y="4022640"/>
                    <a:ext cx="3776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Стрелка вниз 19"/>
          <p:cNvSpPr/>
          <p:nvPr/>
        </p:nvSpPr>
        <p:spPr>
          <a:xfrm flipH="1" rot="14172000">
            <a:off x="6225120" y="1553760"/>
            <a:ext cx="144360" cy="9349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21"/>
          <p:cNvSpPr/>
          <p:nvPr/>
        </p:nvSpPr>
        <p:spPr>
          <a:xfrm>
            <a:off x="6568920" y="1041480"/>
            <a:ext cx="2087640" cy="91440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Объект 22"/>
          <p:cNvGraphicFramePr/>
          <p:nvPr/>
        </p:nvGraphicFramePr>
        <p:xfrm>
          <a:off x="6902280" y="1101600"/>
          <a:ext cx="142092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Объект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02280" y="1101600"/>
                    <a:ext cx="1420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81080" y="189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4" name="Объект 6"/>
          <p:cNvGraphicFramePr/>
          <p:nvPr/>
        </p:nvGraphicFramePr>
        <p:xfrm>
          <a:off x="1547640" y="333360"/>
          <a:ext cx="45342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4534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Объект 7"/>
          <p:cNvGraphicFramePr/>
          <p:nvPr/>
        </p:nvGraphicFramePr>
        <p:xfrm>
          <a:off x="1765440" y="1484280"/>
          <a:ext cx="37573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1484280"/>
                    <a:ext cx="37573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8"/>
          <p:cNvGraphicFramePr/>
          <p:nvPr/>
        </p:nvGraphicFramePr>
        <p:xfrm>
          <a:off x="611280" y="2708280"/>
          <a:ext cx="628632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708280"/>
                    <a:ext cx="6286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9"/>
          <p:cNvSpPr/>
          <p:nvPr/>
        </p:nvSpPr>
        <p:spPr>
          <a:xfrm>
            <a:off x="548280" y="4076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Объект 10"/>
          <p:cNvGraphicFramePr/>
          <p:nvPr/>
        </p:nvGraphicFramePr>
        <p:xfrm>
          <a:off x="684360" y="4646520"/>
          <a:ext cx="6067440" cy="93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646520"/>
                    <a:ext cx="6067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1"/>
          <p:cNvSpPr/>
          <p:nvPr/>
        </p:nvSpPr>
        <p:spPr>
          <a:xfrm>
            <a:off x="762480" y="595008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Объект 12"/>
          <p:cNvGraphicFramePr/>
          <p:nvPr/>
        </p:nvGraphicFramePr>
        <p:xfrm>
          <a:off x="2836800" y="5808600"/>
          <a:ext cx="451476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5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5808600"/>
                    <a:ext cx="4514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79200" y="469800"/>
            <a:ext cx="8931600" cy="951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5736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4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Теорема.  </a:t>
            </a:r>
            <a:r>
              <a:rPr b="0" i="1" lang="ru-RU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усть функции                и                   дифференцируемы на некотором промежутке               и пусть на                     функция                          имеет первообразную. Тогда на интервале                                           также   имеет   первообразную,   т.е. существует                                                                                      ,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ри этом имеет место следующее равенство: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4284720" y="1628640"/>
                <a:ext cx="942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5869080" y="3141720"/>
                <a:ext cx="698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7524720" y="2276640"/>
                <a:ext cx="793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5940360" y="2708280"/>
                <a:ext cx="116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340000" y="2708280"/>
                <a:ext cx="8780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"/>
              <p:cNvSpPr txBox="1"/>
              <p:nvPr/>
            </p:nvSpPr>
            <p:spPr>
              <a:xfrm>
                <a:off x="6805440" y="3141720"/>
                <a:ext cx="1397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2557440" y="4149720"/>
                <a:ext cx="180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1405080" y="5373720"/>
                <a:ext cx="619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156360" y="1557360"/>
                <a:ext cx="877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81080" y="189000"/>
          <a:ext cx="8424720" cy="4032000"/>
        </p:xfrm>
        <a:graphic>
          <a:graphicData uri="http://schemas.openxmlformats.org/drawingml/2006/table">
            <a:tbl>
              <a:tblPr/>
              <a:tblGrid>
                <a:gridCol w="4211640"/>
                <a:gridCol w="4213080"/>
              </a:tblGrid>
              <a:tr h="171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Объект 6"/>
          <p:cNvGraphicFramePr/>
          <p:nvPr/>
        </p:nvGraphicFramePr>
        <p:xfrm>
          <a:off x="1620720" y="1989000"/>
          <a:ext cx="140364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8900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7"/>
          <p:cNvGraphicFramePr/>
          <p:nvPr/>
        </p:nvGraphicFramePr>
        <p:xfrm>
          <a:off x="1620720" y="2781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2781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8"/>
          <p:cNvGraphicFramePr/>
          <p:nvPr/>
        </p:nvGraphicFramePr>
        <p:xfrm>
          <a:off x="1620720" y="3500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720" y="3500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Объект 9"/>
          <p:cNvGraphicFramePr/>
          <p:nvPr/>
        </p:nvGraphicFramePr>
        <p:xfrm>
          <a:off x="5076720" y="1989000"/>
          <a:ext cx="19116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1989000"/>
                    <a:ext cx="1911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Объект 10"/>
          <p:cNvGraphicFramePr/>
          <p:nvPr/>
        </p:nvGraphicFramePr>
        <p:xfrm>
          <a:off x="5221440" y="2852640"/>
          <a:ext cx="16938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1440" y="2852640"/>
                    <a:ext cx="16938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Объект 11"/>
          <p:cNvGraphicFramePr/>
          <p:nvPr/>
        </p:nvGraphicFramePr>
        <p:xfrm>
          <a:off x="5148360" y="3573360"/>
          <a:ext cx="21636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3573360"/>
                    <a:ext cx="2163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Box 12"/>
          <p:cNvSpPr/>
          <p:nvPr/>
        </p:nvSpPr>
        <p:spPr>
          <a:xfrm>
            <a:off x="482760" y="44370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Объект 13"/>
          <p:cNvGraphicFramePr/>
          <p:nvPr/>
        </p:nvGraphicFramePr>
        <p:xfrm>
          <a:off x="2889360" y="4149720"/>
          <a:ext cx="2030400" cy="104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1" name="Объект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89360" y="4149720"/>
                    <a:ext cx="2030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Box 14"/>
          <p:cNvSpPr/>
          <p:nvPr/>
        </p:nvSpPr>
        <p:spPr>
          <a:xfrm>
            <a:off x="620640" y="51577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Объект 15"/>
          <p:cNvGraphicFramePr/>
          <p:nvPr/>
        </p:nvGraphicFramePr>
        <p:xfrm>
          <a:off x="4356000" y="5156280"/>
          <a:ext cx="15400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Объект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515628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16"/>
          <p:cNvGraphicFramePr/>
          <p:nvPr/>
        </p:nvGraphicFramePr>
        <p:xfrm>
          <a:off x="5918040" y="4908600"/>
          <a:ext cx="2359080" cy="104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6" name="Объект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18040" y="4908600"/>
                    <a:ext cx="2359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Объект 17"/>
          <p:cNvGraphicFramePr/>
          <p:nvPr/>
        </p:nvGraphicFramePr>
        <p:xfrm>
          <a:off x="514440" y="5732640"/>
          <a:ext cx="5297400" cy="973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8" name="Объект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440" y="5732640"/>
                    <a:ext cx="52974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Объект 6"/>
          <p:cNvGraphicFramePr/>
          <p:nvPr/>
        </p:nvGraphicFramePr>
        <p:xfrm>
          <a:off x="539640" y="404640"/>
          <a:ext cx="5856480" cy="22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585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Группа 22"/>
          <p:cNvGrpSpPr/>
          <p:nvPr/>
        </p:nvGrpSpPr>
        <p:grpSpPr>
          <a:xfrm>
            <a:off x="647640" y="2906640"/>
            <a:ext cx="4149720" cy="1692360"/>
            <a:chOff x="647640" y="2906640"/>
            <a:chExt cx="4149720" cy="1692360"/>
          </a:xfrm>
        </p:grpSpPr>
        <p:grpSp>
          <p:nvGrpSpPr>
            <p:cNvPr id="442" name="Группа 7"/>
            <p:cNvGrpSpPr/>
            <p:nvPr/>
          </p:nvGrpSpPr>
          <p:grpSpPr>
            <a:xfrm>
              <a:off x="971280" y="2906640"/>
              <a:ext cx="3826080" cy="1692360"/>
              <a:chOff x="971280" y="2906640"/>
              <a:chExt cx="3826080" cy="1692360"/>
            </a:xfrm>
          </p:grpSpPr>
          <p:sp>
            <p:nvSpPr>
              <p:cNvPr id="443" name="Прямая соединительная линия 8"/>
              <p:cNvSpPr/>
              <p:nvPr/>
            </p:nvSpPr>
            <p:spPr>
              <a:xfrm>
                <a:off x="1042560" y="2906640"/>
                <a:ext cx="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9"/>
              <p:cNvSpPr/>
              <p:nvPr/>
            </p:nvSpPr>
            <p:spPr>
              <a:xfrm>
                <a:off x="971280" y="4599000"/>
                <a:ext cx="3745440" cy="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Прямая соединительная линия 10"/>
              <p:cNvSpPr/>
              <p:nvPr/>
            </p:nvSpPr>
            <p:spPr>
              <a:xfrm>
                <a:off x="1053720" y="2906640"/>
                <a:ext cx="374364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46" name="Объект 11"/>
              <p:cNvGraphicFramePr/>
              <p:nvPr/>
            </p:nvGraphicFramePr>
            <p:xfrm>
              <a:off x="2700360" y="3199680"/>
              <a:ext cx="1045800" cy="55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47" name="Объект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00360" y="3199680"/>
                        <a:ext cx="1045800" cy="55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Объект 12"/>
            <p:cNvGraphicFramePr/>
            <p:nvPr/>
          </p:nvGraphicFramePr>
          <p:xfrm>
            <a:off x="3492720" y="4130640"/>
            <a:ext cx="39672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9" name="Объект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720" y="4130640"/>
                      <a:ext cx="39672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TextBox 13"/>
            <p:cNvSpPr/>
            <p:nvPr/>
          </p:nvSpPr>
          <p:spPr>
            <a:xfrm>
              <a:off x="2203200" y="4077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1" name="Объект 14"/>
            <p:cNvGraphicFramePr/>
            <p:nvPr/>
          </p:nvGraphicFramePr>
          <p:xfrm>
            <a:off x="647640" y="3673800"/>
            <a:ext cx="255600" cy="33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2" name="Объект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640" y="3673800"/>
                      <a:ext cx="2556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3" name="Объект 15"/>
          <p:cNvGraphicFramePr/>
          <p:nvPr/>
        </p:nvGraphicFramePr>
        <p:xfrm>
          <a:off x="5797440" y="2401920"/>
          <a:ext cx="15400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4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7440" y="240192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16"/>
          <p:cNvGraphicFramePr/>
          <p:nvPr/>
        </p:nvGraphicFramePr>
        <p:xfrm>
          <a:off x="5437080" y="3068640"/>
          <a:ext cx="245124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6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7080" y="3068640"/>
                    <a:ext cx="2451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Прямоугольник 17"/>
          <p:cNvSpPr/>
          <p:nvPr/>
        </p:nvSpPr>
        <p:spPr>
          <a:xfrm>
            <a:off x="2531880" y="522936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Объект 19"/>
          <p:cNvGraphicFramePr/>
          <p:nvPr/>
        </p:nvGraphicFramePr>
        <p:xfrm>
          <a:off x="5797440" y="4908600"/>
          <a:ext cx="2487600" cy="105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9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7440" y="4908600"/>
                    <a:ext cx="24876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Прямоугольник 20"/>
          <p:cNvSpPr/>
          <p:nvPr/>
        </p:nvSpPr>
        <p:spPr>
          <a:xfrm>
            <a:off x="618120" y="609300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Объект 21"/>
          <p:cNvGraphicFramePr/>
          <p:nvPr/>
        </p:nvGraphicFramePr>
        <p:xfrm>
          <a:off x="2200320" y="5619600"/>
          <a:ext cx="1812960" cy="105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Объект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0320" y="5619600"/>
                    <a:ext cx="1812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5"/>
          <p:cNvSpPr/>
          <p:nvPr/>
        </p:nvSpPr>
        <p:spPr>
          <a:xfrm>
            <a:off x="338400" y="23184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Объект 6"/>
          <p:cNvGraphicFramePr/>
          <p:nvPr/>
        </p:nvGraphicFramePr>
        <p:xfrm>
          <a:off x="2746440" y="171360"/>
          <a:ext cx="18064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171360"/>
                    <a:ext cx="1806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Прямоугольник 8"/>
          <p:cNvSpPr/>
          <p:nvPr/>
        </p:nvSpPr>
        <p:spPr>
          <a:xfrm>
            <a:off x="661320" y="16714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Объект 9"/>
          <p:cNvGraphicFramePr/>
          <p:nvPr/>
        </p:nvGraphicFramePr>
        <p:xfrm>
          <a:off x="5005440" y="498600"/>
          <a:ext cx="3567240" cy="20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498600"/>
                    <a:ext cx="35672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Группа 10" descr=""/>
          <p:cNvPicPr/>
          <p:nvPr/>
        </p:nvPicPr>
        <p:blipFill>
          <a:blip r:embed="rId5"/>
          <a:stretch/>
        </p:blipFill>
        <p:spPr>
          <a:xfrm>
            <a:off x="182520" y="2341440"/>
            <a:ext cx="46213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Объект 19"/>
          <p:cNvGraphicFramePr/>
          <p:nvPr/>
        </p:nvGraphicFramePr>
        <p:xfrm>
          <a:off x="4032360" y="2822400"/>
          <a:ext cx="4703760" cy="100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Объект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2360" y="2822400"/>
                    <a:ext cx="47037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0"/>
          <p:cNvSpPr/>
          <p:nvPr/>
        </p:nvSpPr>
        <p:spPr>
          <a:xfrm>
            <a:off x="388080" y="46958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Объект 21"/>
          <p:cNvGraphicFramePr/>
          <p:nvPr/>
        </p:nvGraphicFramePr>
        <p:xfrm>
          <a:off x="2482920" y="4437000"/>
          <a:ext cx="574524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Объект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2920" y="4437000"/>
                    <a:ext cx="57452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22"/>
          <p:cNvGraphicFramePr/>
          <p:nvPr/>
        </p:nvGraphicFramePr>
        <p:xfrm>
          <a:off x="396720" y="5661000"/>
          <a:ext cx="2730600" cy="92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6" name="Объект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720" y="5661000"/>
                    <a:ext cx="2730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Стрелка вниз 23"/>
          <p:cNvSpPr/>
          <p:nvPr/>
        </p:nvSpPr>
        <p:spPr>
          <a:xfrm rot="13978200">
            <a:off x="4536000" y="1161000"/>
            <a:ext cx="180720" cy="9000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трелка вниз 24"/>
          <p:cNvSpPr/>
          <p:nvPr/>
        </p:nvSpPr>
        <p:spPr>
          <a:xfrm>
            <a:off x="7273800" y="2421000"/>
            <a:ext cx="142920" cy="3603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6059880" y="60642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Объект 26"/>
          <p:cNvGraphicFramePr/>
          <p:nvPr/>
        </p:nvGraphicFramePr>
        <p:xfrm>
          <a:off x="7164360" y="5834160"/>
          <a:ext cx="133344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1" name="Объект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5834160"/>
                    <a:ext cx="133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80960" y="1395360"/>
            <a:ext cx="8759880" cy="11764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068720" y="3938760"/>
            <a:ext cx="42991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88c5"/>
                </a:solidFill>
                <a:latin typeface="Trebuchet MS"/>
              </a:rPr>
              <a:t>Лекция 1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8" descr=""/>
          <p:cNvPicPr/>
          <p:nvPr/>
        </p:nvPicPr>
        <p:blipFill>
          <a:blip r:embed="rId1"/>
          <a:stretch/>
        </p:blipFill>
        <p:spPr>
          <a:xfrm>
            <a:off x="324000" y="255600"/>
            <a:ext cx="8899200" cy="73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2000" y="114300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0"/>
              <p:cNvSpPr txBox="1"/>
              <p:nvPr/>
            </p:nvSpPr>
            <p:spPr>
              <a:xfrm>
                <a:off x="2700360" y="1989000"/>
                <a:ext cx="13748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1260360" y="299736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8"/>
              <p:cNvSpPr txBox="1"/>
              <p:nvPr/>
            </p:nvSpPr>
            <p:spPr>
              <a:xfrm>
                <a:off x="6661080" y="436572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9"/>
              <p:cNvSpPr txBox="1"/>
              <p:nvPr/>
            </p:nvSpPr>
            <p:spPr>
              <a:xfrm>
                <a:off x="4068720" y="47973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665280" y="219240"/>
            <a:ext cx="7729560" cy="768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065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252360" y="12682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ед интегрированием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т.е представить в виде                                                                        многочлен, а                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836720" y="393372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3060720" y="4581360"/>
                <a:ext cx="100800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24000" y="527040"/>
            <a:ext cx="8208720" cy="67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результате интегрирование рациональной дроби сведется к нахождению интегралов от многочлена и от простейших рациональных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4"/>
          <p:cNvSpPr/>
          <p:nvPr/>
        </p:nvSpPr>
        <p:spPr>
          <a:xfrm>
            <a:off x="56520" y="189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 вычислении интеграла от  правильной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ение будет включать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Объект 5"/>
          <p:cNvGraphicFramePr/>
          <p:nvPr/>
        </p:nvGraphicFramePr>
        <p:xfrm>
          <a:off x="757080" y="1454040"/>
          <a:ext cx="522936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54040"/>
                    <a:ext cx="52293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Объект 6"/>
          <p:cNvGraphicFramePr/>
          <p:nvPr/>
        </p:nvGraphicFramePr>
        <p:xfrm>
          <a:off x="757080" y="2637000"/>
          <a:ext cx="7307280" cy="97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7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637000"/>
                    <a:ext cx="730728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Объект 8"/>
          <p:cNvGraphicFramePr/>
          <p:nvPr/>
        </p:nvGraphicFramePr>
        <p:xfrm>
          <a:off x="444600" y="3903840"/>
          <a:ext cx="8445240" cy="24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3903840"/>
                    <a:ext cx="844524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311040" y="542880"/>
            <a:ext cx="8929800" cy="590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85640" y="1341000"/>
            <a:ext cx="8120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Даны  дифференцируемые функции       и        на некотором промежутке, тогда функция          также дифференцируема на этом промежу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нтегрируя обе части выражения (*), получи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6589800" y="1413000"/>
                <a:ext cx="5331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7524720" y="1413000"/>
                <a:ext cx="4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7021440" y="1871640"/>
                <a:ext cx="819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2629080" y="2492280"/>
                <a:ext cx="304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1"/>
              <p:cNvSpPr txBox="1"/>
              <p:nvPr/>
            </p:nvSpPr>
            <p:spPr>
              <a:xfrm>
                <a:off x="2340000" y="3882960"/>
                <a:ext cx="503064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Объект 4"/>
          <p:cNvGraphicFramePr/>
          <p:nvPr/>
        </p:nvGraphicFramePr>
        <p:xfrm>
          <a:off x="324000" y="44280"/>
          <a:ext cx="80899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280"/>
                    <a:ext cx="8089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Стрелка вниз 5"/>
          <p:cNvSpPr/>
          <p:nvPr/>
        </p:nvSpPr>
        <p:spPr>
          <a:xfrm flipH="1" rot="3710400">
            <a:off x="2983320" y="830880"/>
            <a:ext cx="109440" cy="118008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6"/>
          <p:cNvGraphicFramePr/>
          <p:nvPr/>
        </p:nvGraphicFramePr>
        <p:xfrm>
          <a:off x="181080" y="1773360"/>
          <a:ext cx="257796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1773360"/>
                    <a:ext cx="25779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25"/>
          <p:cNvGraphicFramePr/>
          <p:nvPr/>
        </p:nvGraphicFramePr>
        <p:xfrm>
          <a:off x="3159000" y="1747800"/>
          <a:ext cx="54532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9000" y="1747800"/>
                    <a:ext cx="5453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Стрелка вниз 26"/>
          <p:cNvSpPr/>
          <p:nvPr/>
        </p:nvSpPr>
        <p:spPr>
          <a:xfrm flipV="1" rot="8395800">
            <a:off x="6725160" y="874800"/>
            <a:ext cx="87120" cy="112392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28"/>
          <p:cNvSpPr/>
          <p:nvPr/>
        </p:nvSpPr>
        <p:spPr>
          <a:xfrm>
            <a:off x="2886120" y="1844640"/>
            <a:ext cx="0" cy="223200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30"/>
          <p:cNvSpPr/>
          <p:nvPr/>
        </p:nvSpPr>
        <p:spPr>
          <a:xfrm>
            <a:off x="4176720" y="2997360"/>
            <a:ext cx="3924360" cy="104292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Объект 31"/>
          <p:cNvGraphicFramePr/>
          <p:nvPr/>
        </p:nvGraphicFramePr>
        <p:xfrm>
          <a:off x="4632480" y="3213000"/>
          <a:ext cx="31082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Объект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2480" y="3213000"/>
                    <a:ext cx="31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Объект 32"/>
          <p:cNvGraphicFramePr/>
          <p:nvPr/>
        </p:nvGraphicFramePr>
        <p:xfrm>
          <a:off x="108000" y="4292640"/>
          <a:ext cx="8448480" cy="11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Объект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4292640"/>
                    <a:ext cx="8448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Объект 33"/>
          <p:cNvGraphicFramePr/>
          <p:nvPr/>
        </p:nvGraphicFramePr>
        <p:xfrm>
          <a:off x="36360" y="5516640"/>
          <a:ext cx="507384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Объект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" y="5516640"/>
                    <a:ext cx="50738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Овал 34"/>
          <p:cNvSpPr/>
          <p:nvPr/>
        </p:nvSpPr>
        <p:spPr>
          <a:xfrm>
            <a:off x="5221440" y="5516640"/>
            <a:ext cx="2700360" cy="9000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Объект 35"/>
          <p:cNvGraphicFramePr/>
          <p:nvPr/>
        </p:nvGraphicFramePr>
        <p:xfrm>
          <a:off x="5724360" y="5661000"/>
          <a:ext cx="16909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Объект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5661000"/>
                    <a:ext cx="1690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Стрелка вниз 36"/>
          <p:cNvSpPr/>
          <p:nvPr/>
        </p:nvSpPr>
        <p:spPr>
          <a:xfrm flipH="1" flipV="1" rot="4368000">
            <a:off x="3214440" y="3089520"/>
            <a:ext cx="127080" cy="17636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Объект 1"/>
          <p:cNvGraphicFramePr/>
          <p:nvPr/>
        </p:nvGraphicFramePr>
        <p:xfrm>
          <a:off x="324000" y="482760"/>
          <a:ext cx="808992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82760"/>
                    <a:ext cx="808992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Объект 2"/>
          <p:cNvGraphicFramePr/>
          <p:nvPr/>
        </p:nvGraphicFramePr>
        <p:xfrm>
          <a:off x="382680" y="2517840"/>
          <a:ext cx="77184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680" y="2517840"/>
                    <a:ext cx="77184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1"/>
          <p:cNvSpPr/>
          <p:nvPr/>
        </p:nvSpPr>
        <p:spPr>
          <a:xfrm>
            <a:off x="332280" y="1080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1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"/>
          <p:cNvSpPr/>
          <p:nvPr/>
        </p:nvSpPr>
        <p:spPr>
          <a:xfrm>
            <a:off x="1852200" y="1159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Объект 3"/>
          <p:cNvGraphicFramePr/>
          <p:nvPr/>
        </p:nvGraphicFramePr>
        <p:xfrm>
          <a:off x="368280" y="606600"/>
          <a:ext cx="800100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606600"/>
                    <a:ext cx="800100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Овал 5"/>
          <p:cNvSpPr/>
          <p:nvPr/>
        </p:nvSpPr>
        <p:spPr>
          <a:xfrm>
            <a:off x="3852720" y="1844640"/>
            <a:ext cx="3961080" cy="9144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Объект 6"/>
          <p:cNvGraphicFramePr/>
          <p:nvPr/>
        </p:nvGraphicFramePr>
        <p:xfrm>
          <a:off x="4108320" y="2060640"/>
          <a:ext cx="34894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2060640"/>
                    <a:ext cx="3489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Стрелка вниз 7"/>
          <p:cNvSpPr/>
          <p:nvPr/>
        </p:nvSpPr>
        <p:spPr>
          <a:xfrm flipV="1" rot="8395800">
            <a:off x="5221080" y="1189800"/>
            <a:ext cx="74520" cy="876240"/>
          </a:xfrm>
          <a:prstGeom prst="downArrow">
            <a:avLst>
              <a:gd name="adj1" fmla="val 50000"/>
              <a:gd name="adj2" fmla="val 5008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496800" y="260676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Объект 10"/>
          <p:cNvGraphicFramePr/>
          <p:nvPr/>
        </p:nvGraphicFramePr>
        <p:xfrm>
          <a:off x="328680" y="3213000"/>
          <a:ext cx="7792920" cy="124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80" y="3213000"/>
                    <a:ext cx="77929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1"/>
          <p:cNvGraphicFramePr/>
          <p:nvPr/>
        </p:nvGraphicFramePr>
        <p:xfrm>
          <a:off x="396720" y="4508640"/>
          <a:ext cx="49500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6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508640"/>
                    <a:ext cx="4950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Прямоугольник 12"/>
          <p:cNvSpPr/>
          <p:nvPr/>
        </p:nvSpPr>
        <p:spPr>
          <a:xfrm>
            <a:off x="3206880" y="5516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Объект 13"/>
          <p:cNvGraphicFramePr/>
          <p:nvPr/>
        </p:nvGraphicFramePr>
        <p:xfrm>
          <a:off x="4789440" y="5300640"/>
          <a:ext cx="3111480" cy="87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9440" y="5300640"/>
                    <a:ext cx="31114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85280" y="404280"/>
            <a:ext cx="7975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</a:t>
            </a:r>
            <a:r>
              <a:rPr b="1" lang="en-US" sz="26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ынтегральная функция–правильная рациональная дробь. Представим ее в виде суммы простейших дробей, учитывая, чт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ведем к общему знаменателю сумму дробей, стоящих в правой част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Рисунок 9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2520720" cy="8636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0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316872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1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3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4" name="Object 10"/>
              <p:cNvSpPr txBox="1"/>
              <p:nvPr/>
            </p:nvSpPr>
            <p:spPr>
              <a:xfrm>
                <a:off x="252360" y="40464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12280" y="2111040"/>
            <a:ext cx="4348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равняем числители дробей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-42840" y="2997360"/>
                <a:ext cx="8720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7"/>
              <p:cNvSpPr txBox="1"/>
              <p:nvPr/>
            </p:nvSpPr>
            <p:spPr>
              <a:xfrm>
                <a:off x="585720" y="364500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8"/>
              <p:cNvSpPr txBox="1"/>
              <p:nvPr/>
            </p:nvSpPr>
            <p:spPr>
              <a:xfrm>
                <a:off x="4640400" y="3645000"/>
                <a:ext cx="3195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9"/>
              <p:cNvSpPr txBox="1"/>
              <p:nvPr/>
            </p:nvSpPr>
            <p:spPr>
              <a:xfrm>
                <a:off x="468360" y="465300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0" name="Object 11"/>
          <p:cNvGraphicFramePr/>
          <p:nvPr/>
        </p:nvGraphicFramePr>
        <p:xfrm>
          <a:off x="5041800" y="5064120"/>
          <a:ext cx="14749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1800" y="5064120"/>
                    <a:ext cx="1474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10"/>
          <p:cNvGraphicFramePr/>
          <p:nvPr/>
        </p:nvGraphicFramePr>
        <p:xfrm>
          <a:off x="982800" y="-108000"/>
          <a:ext cx="5879880" cy="33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-108000"/>
                    <a:ext cx="58798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4" name="Рисунок 11" descr=""/>
          <p:cNvPicPr/>
          <p:nvPr/>
        </p:nvPicPr>
        <p:blipFill>
          <a:blip r:embed="rId3"/>
          <a:stretch/>
        </p:blipFill>
        <p:spPr>
          <a:xfrm>
            <a:off x="5005440" y="311472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2" descr=""/>
          <p:cNvPicPr/>
          <p:nvPr/>
        </p:nvPicPr>
        <p:blipFill>
          <a:blip r:embed="rId4"/>
          <a:stretch/>
        </p:blipFill>
        <p:spPr>
          <a:xfrm>
            <a:off x="6950160" y="3033720"/>
            <a:ext cx="1152360" cy="38736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3" descr=""/>
          <p:cNvPicPr/>
          <p:nvPr/>
        </p:nvPicPr>
        <p:blipFill>
          <a:blip r:embed="rId5"/>
          <a:stretch/>
        </p:blipFill>
        <p:spPr>
          <a:xfrm>
            <a:off x="6950160" y="3513240"/>
            <a:ext cx="1079280" cy="4698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4" descr=""/>
          <p:cNvPicPr/>
          <p:nvPr/>
        </p:nvPicPr>
        <p:blipFill>
          <a:blip r:embed="rId6"/>
          <a:stretch/>
        </p:blipFill>
        <p:spPr>
          <a:xfrm>
            <a:off x="757080" y="4508640"/>
            <a:ext cx="7199640" cy="1728720"/>
          </a:xfrm>
          <a:prstGeom prst="rect">
            <a:avLst/>
          </a:prstGeom>
          <a:ln w="0">
            <a:noFill/>
          </a:ln>
        </p:spPr>
      </p:pic>
      <p:sp>
        <p:nvSpPr>
          <p:cNvPr id="568" name="Стрелка вниз 7"/>
          <p:cNvSpPr/>
          <p:nvPr/>
        </p:nvSpPr>
        <p:spPr>
          <a:xfrm flipH="1" rot="14649600">
            <a:off x="3773880" y="2706480"/>
            <a:ext cx="34920" cy="2087640"/>
          </a:xfrm>
          <a:prstGeom prst="downArrow">
            <a:avLst>
              <a:gd name="adj1" fmla="val 50000"/>
              <a:gd name="adj2" fmla="val 5009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8"/>
          <p:cNvSpPr/>
          <p:nvPr/>
        </p:nvSpPr>
        <p:spPr>
          <a:xfrm>
            <a:off x="900000" y="476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9"/>
          <p:cNvSpPr/>
          <p:nvPr/>
        </p:nvSpPr>
        <p:spPr>
          <a:xfrm>
            <a:off x="684360" y="458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41480" y="4122720"/>
                <a:ext cx="55832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4"/>
              <p:cNvSpPr txBox="1"/>
              <p:nvPr/>
            </p:nvSpPr>
            <p:spPr>
              <a:xfrm>
                <a:off x="425520" y="1459080"/>
                <a:ext cx="682308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98240" y="691920"/>
            <a:ext cx="817884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Метод интегрирования по частям применя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 следующих случаях: Подынтегральное выра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меет вид:  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1.  Интеграл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250920" y="2708280"/>
          <a:ext cx="8281800" cy="3529080"/>
        </p:xfrm>
        <a:graphic>
          <a:graphicData uri="http://schemas.openxmlformats.org/drawingml/2006/table">
            <a:tbl>
              <a:tblPr/>
              <a:tblGrid>
                <a:gridCol w="2603520"/>
                <a:gridCol w="1735200"/>
                <a:gridCol w="2214360"/>
                <a:gridCol w="1728720"/>
              </a:tblGrid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68360" y="3429000"/>
                <a:ext cx="218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720" y="4149720"/>
                <a:ext cx="212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8360" y="4869000"/>
                <a:ext cx="2003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468360" y="5516640"/>
                <a:ext cx="2062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3205080" y="2708280"/>
                <a:ext cx="865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2"/>
              <p:cNvSpPr txBox="1"/>
              <p:nvPr/>
            </p:nvSpPr>
            <p:spPr>
              <a:xfrm>
                <a:off x="5148360" y="2781360"/>
                <a:ext cx="936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3"/>
              <p:cNvSpPr txBox="1"/>
              <p:nvPr/>
            </p:nvSpPr>
            <p:spPr>
              <a:xfrm>
                <a:off x="3348000" y="3429000"/>
                <a:ext cx="60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4"/>
              <p:cNvSpPr txBox="1"/>
              <p:nvPr/>
            </p:nvSpPr>
            <p:spPr>
              <a:xfrm>
                <a:off x="5221440" y="3500280"/>
                <a:ext cx="911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8" name="Object 12"/>
          <p:cNvGraphicFramePr/>
          <p:nvPr/>
        </p:nvGraphicFramePr>
        <p:xfrm>
          <a:off x="5221440" y="4149720"/>
          <a:ext cx="10792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4149720"/>
                    <a:ext cx="107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Object 16"/>
              <p:cNvSpPr txBox="1"/>
              <p:nvPr/>
            </p:nvSpPr>
            <p:spPr>
              <a:xfrm>
                <a:off x="5234040" y="4905360"/>
                <a:ext cx="121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5148360" y="5589720"/>
                <a:ext cx="125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Объект 1"/>
              <p:cNvSpPr txBox="1"/>
              <p:nvPr/>
            </p:nvSpPr>
            <p:spPr>
              <a:xfrm>
                <a:off x="3348000" y="4149720"/>
                <a:ext cx="609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Объект 2"/>
              <p:cNvSpPr txBox="1"/>
              <p:nvPr/>
            </p:nvSpPr>
            <p:spPr>
              <a:xfrm>
                <a:off x="3348000" y="4869000"/>
                <a:ext cx="6094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Объект 3"/>
              <p:cNvSpPr txBox="1"/>
              <p:nvPr/>
            </p:nvSpPr>
            <p:spPr>
              <a:xfrm>
                <a:off x="3384720" y="5516640"/>
                <a:ext cx="612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2920" y="475920"/>
            <a:ext cx="88916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2. Интегра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a50021"/>
                </a:solidFill>
                <a:latin typeface="Trebuchet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d490c5"/>
                </a:solidFill>
                <a:latin typeface="Trebuchet MS"/>
              </a:rPr>
              <a:t>-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циклическое интегриров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252360" y="1125360"/>
          <a:ext cx="8209080" cy="2953080"/>
        </p:xfrm>
        <a:graphic>
          <a:graphicData uri="http://schemas.openxmlformats.org/drawingml/2006/table">
            <a:tbl>
              <a:tblPr/>
              <a:tblGrid>
                <a:gridCol w="3205080"/>
                <a:gridCol w="2060640"/>
                <a:gridCol w="1908360"/>
                <a:gridCol w="1035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396720" y="1555920"/>
                <a:ext cx="2202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6"/>
          <p:cNvGraphicFramePr/>
          <p:nvPr/>
        </p:nvGraphicFramePr>
        <p:xfrm>
          <a:off x="324000" y="2205000"/>
          <a:ext cx="27097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709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4213080" y="549360"/>
                <a:ext cx="852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6373800" y="549360"/>
                <a:ext cx="9288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6"/>
              <p:cNvSpPr txBox="1"/>
              <p:nvPr/>
            </p:nvSpPr>
            <p:spPr>
              <a:xfrm>
                <a:off x="252360" y="2852640"/>
                <a:ext cx="2922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7"/>
              <p:cNvSpPr txBox="1"/>
              <p:nvPr/>
            </p:nvSpPr>
            <p:spPr>
              <a:xfrm>
                <a:off x="181080" y="3502080"/>
                <a:ext cx="28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8"/>
              <p:cNvSpPr txBox="1"/>
              <p:nvPr/>
            </p:nvSpPr>
            <p:spPr>
              <a:xfrm>
                <a:off x="6013440" y="2276640"/>
                <a:ext cx="115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9"/>
              <p:cNvSpPr txBox="1"/>
              <p:nvPr/>
            </p:nvSpPr>
            <p:spPr>
              <a:xfrm>
                <a:off x="3924360" y="1623960"/>
                <a:ext cx="1255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1"/>
              <p:cNvSpPr txBox="1"/>
              <p:nvPr/>
            </p:nvSpPr>
            <p:spPr>
              <a:xfrm>
                <a:off x="3852720" y="2282760"/>
                <a:ext cx="1686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2"/>
              <p:cNvSpPr txBox="1"/>
              <p:nvPr/>
            </p:nvSpPr>
            <p:spPr>
              <a:xfrm>
                <a:off x="3852720" y="2997360"/>
                <a:ext cx="16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4"/>
              <p:cNvSpPr txBox="1"/>
              <p:nvPr/>
            </p:nvSpPr>
            <p:spPr>
              <a:xfrm>
                <a:off x="3852720" y="3573360"/>
                <a:ext cx="1400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5"/>
              <p:cNvSpPr txBox="1"/>
              <p:nvPr/>
            </p:nvSpPr>
            <p:spPr>
              <a:xfrm>
                <a:off x="3368520" y="4941720"/>
                <a:ext cx="2698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6"/>
              <p:cNvSpPr txBox="1"/>
              <p:nvPr/>
            </p:nvSpPr>
            <p:spPr>
              <a:xfrm>
                <a:off x="411120" y="4941720"/>
                <a:ext cx="2852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7"/>
              <p:cNvSpPr txBox="1"/>
              <p:nvPr/>
            </p:nvSpPr>
            <p:spPr>
              <a:xfrm>
                <a:off x="6338880" y="4780080"/>
                <a:ext cx="237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7693200" cy="878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85280" y="2060640"/>
            <a:ext cx="754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1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2413080" y="342900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6720" y="4076640"/>
                <a:ext cx="3400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971640" y="4748040"/>
                <a:ext cx="5587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716360" y="1916280"/>
                <a:ext cx="2157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3205080" y="1197000"/>
                <a:ext cx="266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85640" y="126828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797120" y="3284640"/>
          <a:ext cx="517212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3284640"/>
                    <a:ext cx="51721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Box 7"/>
          <p:cNvSpPr/>
          <p:nvPr/>
        </p:nvSpPr>
        <p:spPr>
          <a:xfrm>
            <a:off x="1135800" y="5775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3060720" y="5576760"/>
                <a:ext cx="4132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5" name="Объект 1"/>
          <p:cNvGraphicFramePr/>
          <p:nvPr/>
        </p:nvGraphicFramePr>
        <p:xfrm>
          <a:off x="1900080" y="541440"/>
          <a:ext cx="537876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541440"/>
                    <a:ext cx="53787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85640" y="1628280"/>
            <a:ext cx="79041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2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4"/>
              <p:cNvSpPr txBox="1"/>
              <p:nvPr/>
            </p:nvSpPr>
            <p:spPr>
              <a:xfrm>
                <a:off x="22683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13"/>
          <p:cNvGraphicFramePr/>
          <p:nvPr/>
        </p:nvGraphicFramePr>
        <p:xfrm>
          <a:off x="757080" y="4869000"/>
          <a:ext cx="495144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869000"/>
                    <a:ext cx="49514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5308560" y="184464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TextBox 7"/>
          <p:cNvSpPr/>
          <p:nvPr/>
        </p:nvSpPr>
        <p:spPr>
          <a:xfrm>
            <a:off x="3862440" y="60627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6156360" y="6037200"/>
                <a:ext cx="1649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2989440" y="69228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05" name="Объект 1"/>
          <p:cNvGraphicFramePr/>
          <p:nvPr/>
        </p:nvGraphicFramePr>
        <p:xfrm>
          <a:off x="1685880" y="3933720"/>
          <a:ext cx="57517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5880" y="3933720"/>
                    <a:ext cx="57517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85640" y="1998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3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4"/>
              <p:cNvSpPr txBox="1"/>
              <p:nvPr/>
            </p:nvSpPr>
            <p:spPr>
              <a:xfrm>
                <a:off x="24177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70080" y="3967200"/>
                <a:ext cx="299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177920" y="4416480"/>
                <a:ext cx="5173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11" name="Object 6"/>
          <p:cNvGraphicFramePr/>
          <p:nvPr/>
        </p:nvGraphicFramePr>
        <p:xfrm>
          <a:off x="5940360" y="1844640"/>
          <a:ext cx="16639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844640"/>
                    <a:ext cx="1663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2413080" y="692280"/>
                <a:ext cx="3313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12-05T04:01:09Z</dcterms:modified>
  <cp:revision>229</cp:revision>
  <dc:subject/>
  <dc:title>НЕПРЕРЫВНАЯ СЛУЧАЙНАЯ ВЕЛИЧИНА.</dc:title>
</cp:coreProperties>
</file>